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91596-7011-4C9E-BEAD-677D13762A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 a picture of one of the points of interest for your count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sert a map of your country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sert a picture of one of the geographic features of your country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 a picture illustrating a season in your count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 a picture of an animal and or plant found in your count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dd key points in the history of your country to the timelin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 a picture illustrating a custom or tradition he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 a picture of the head leader of your count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 a picture that illustrates some part of your country’s econom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3A59-EC17-483D-957C-BFA1FF899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5BBE-CEB7-441B-AE97-F2538EDE2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A33C-3452-48A6-893D-485504186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1A53-12DE-4DAC-9026-F34DF36C6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46B66-7FCD-4DBA-890F-498C74B21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D75F8-AF69-4C72-AFCF-F05F0D743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E69C2-3ED6-4A86-BCAF-2847DFEB2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361BF-D0D8-46D4-8C88-1D00E73FD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55163-F5EF-426A-B584-1BFD205B3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1C79E-377B-4266-8576-99FA41EFA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AADD9-521E-435B-855C-3F440138C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9D34-6243-43CD-A846-272E93C65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D6249-BA65-44A4-A821-A6A058CFD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1E527-D659-460C-8E65-B544B5457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419A8-E23C-4B40-8388-A962BEA1C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6F091-0D61-4221-B0CF-ABA96BA0F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CBCB0-88A3-44E7-94C0-4C4B213E2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1746-B32A-4C38-A70B-2BC4BDEE9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0EDB-2F82-4B4C-9F61-E53C387B1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1F3F-AF82-4BB2-9725-55A7F5AB2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E414-8104-42D4-8FB1-D579365DC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A839-934B-4FBE-8F06-2298693FD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F732-429A-45A1-BF32-E8633250C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10E1-430C-4C30-823D-C4F84473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69A62-7145-4A3C-BACE-38AE13949C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09" name="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pic>
          <p:nvPicPr>
            <p:cNvPr id="157" name="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pic>
          <p:nvPicPr>
            <p:cNvPr id="283" name="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F2369-E4F4-4C2D-8936-0210280693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871280" y="2168640"/>
            <a:ext cx="6891480" cy="16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Name of Your Country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1828800" y="403848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r N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r Teac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r Gra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Tourism in (your country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2147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l about the points of interest in your country that people from other countries may be interested in visit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4647960" y="214776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urrent Event of (your country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tle of the ev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mmary (5 sentenc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Literacy Rate of (your country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685800" y="214776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4776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Rainfall in (your country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685800" y="214776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4776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Temperature in (your country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682560" y="2133720"/>
          <a:ext cx="7740720" cy="410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2133720"/>
                    <a:ext cx="7740720" cy="41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50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Where (your country) is located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l which conti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r country is 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and whi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ntries are 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ighbo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4647960" y="213372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457200" y="220968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31280" y="799920"/>
            <a:ext cx="834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6600"/>
                </a:solidFill>
                <a:latin typeface="Times New Roman"/>
              </a:rPr>
              <a:t>Geographic Features of (your country)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3809880" cy="38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me any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vers, lakes, oceans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untain ranges 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geograph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atures that can b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nd in or next 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r countr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4647960" y="205740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533520" y="2438280"/>
            <a:ext cx="4495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6705720" y="2666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50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mate of (your country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685440" y="214776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724280" y="21337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l about the typical weather patterns in your country throughout the calendar ye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" y="2971800"/>
            <a:ext cx="4495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Environment of (your country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ome of the environmental issues and natural hazards that take place in your countr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4647960" y="214776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5775480" y="2631960"/>
            <a:ext cx="138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"/>
          <p:cNvSpPr/>
          <p:nvPr/>
        </p:nvSpPr>
        <p:spPr>
          <a:xfrm>
            <a:off x="5410080" y="3505320"/>
            <a:ext cx="266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538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History of (your country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09480" y="2133720"/>
            <a:ext cx="723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a timeline of the important historical events of your country or provin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250920" y="3249720"/>
          <a:ext cx="8664480" cy="3471840"/>
        </p:xfrm>
        <a:graphic>
          <a:graphicData uri="http://schemas.openxmlformats.org/drawingml/2006/table">
            <a:tbl>
              <a:tblPr/>
              <a:tblGrid>
                <a:gridCol w="1571760"/>
                <a:gridCol w="1594080"/>
                <a:gridCol w="1745640"/>
                <a:gridCol w="1746000"/>
                <a:gridCol w="1571760"/>
                <a:gridCol w="216000"/>
                <a:gridCol w="219240"/>
              </a:tblGrid>
              <a:tr h="1000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me of Event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me of Event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me of Event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me of Event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me of Event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st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nd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rd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th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th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  <a:tr h="1844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cription of Ev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cription of Ev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cription of Ev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cription of Ev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cription of Ev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ustoms and Tradition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685440" y="214776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648320" y="22096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l about the important customs and traditions celebrated in your country. Include information about who celebrates and when they celebra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"/>
          <p:cNvSpPr/>
          <p:nvPr/>
        </p:nvSpPr>
        <p:spPr>
          <a:xfrm>
            <a:off x="5867280" y="3048120"/>
            <a:ext cx="19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50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Government of (your country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ain what form of government and who is the leader of your country. Identify when and from whom your country gained independence fro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4647960" y="214776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5257800" y="32004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Economy of (your country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685440" y="214776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648320" y="214776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ain which goods and services are produced in your country. What is the GDP per capita, unemployment rate, and population below the poverty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5T16:42:19Z</dcterms:created>
  <dc:creator>Connie Campbell</dc:creator>
  <dc:description/>
  <dc:language>en-US</dc:language>
  <cp:lastModifiedBy>teacher</cp:lastModifiedBy>
  <dcterms:modified xsi:type="dcterms:W3CDTF">2008-01-02T15:56:01Z</dcterms:modified>
  <cp:revision>4</cp:revision>
  <dc:subject/>
  <dc:title>Name of Your Country</dc:title>
</cp:coreProperties>
</file>